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134-1AEE-4C9D-B427-F5A4BA31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4AF-12B0-4E0A-BB93-F15A8967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258-287B-4287-91D9-9D3CBB63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0DC-C3A7-455A-96C5-DB9D8080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6231-5076-49FE-8EE2-908E4F49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747A-88B9-4B2F-8B21-6C0FE900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6DE8-D429-4A1B-86D4-6FA35B56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03C7-29FE-49EE-B674-544778C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0FAC-32BA-4EAE-BCA5-57864532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B7E1-D686-45DD-B3C7-99432746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6C8A-FAD3-40E9-9A63-283898D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C3B-F831-41AA-B82B-BAE66B17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2F42-6B81-452C-BDE8-398A3832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ACE6-A74E-49AF-9234-5C316D6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A1A4-8B54-49B1-9970-443DD6DF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111A-C3B6-4474-B226-7AA386D9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3AED-3AC8-477B-96ED-653A3575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64A-1780-48C5-B981-949A6760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B7A-4E73-45DF-8E8A-142F0DBB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5D2-4313-48D8-BB3B-4308522A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F3F-E40F-4AE0-862A-2FBF4446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CA8-3837-4524-9E76-AAAB5968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873-DF8B-4CF9-8F5B-547D205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86F-5268-436B-95E9-10AD092B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052D-A4AB-4FE0-9B22-E87AF935022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F40-1D4C-4FB6-9D40-B1EEE204F90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ldiPn0ngxK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diPn0ngxK0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hemi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Obser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l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nviro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ignifica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us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xpen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In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457200"/>
          <a:ext cx="8229600" cy="5332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 things 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gerous things 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gs we can do to protect n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3520" y="152280"/>
            <a:ext cx="807696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Ссылка на видеофрагмен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youtube.com/watch?v=ldiPn0ngxK0&amp;feature=relate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для 10 класс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олетовой М.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7-9 классов Клементьевой Т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youtube.com/watch?v=ldiPn0ngxK0&amp;feature=relate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3526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4320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Ge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Eart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sio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72200" y="304920"/>
            <a:ext cx="3505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хими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блюд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логическ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етряс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ружающ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онечном итог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чительн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ый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ерживающ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обретательно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al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si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105520" y="53352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410080" y="380880"/>
            <a:ext cx="914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Do you know how long these things last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raffic t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banana pe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l so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den sti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ainted wooden s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ax paper c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in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aluminum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lastic contai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lass bo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3581280" y="152388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mont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5486400" y="1828800"/>
            <a:ext cx="1757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mont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581280" y="2362320"/>
            <a:ext cx="1305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year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486400" y="2666880"/>
            <a:ext cx="159552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year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4952880" y="3200400"/>
            <a:ext cx="168588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year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3962520" y="3657600"/>
            <a:ext cx="138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years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3"/>
          <p:cNvSpPr txBox="1"/>
          <p:nvPr/>
        </p:nvSpPr>
        <p:spPr>
          <a:xfrm>
            <a:off x="5562720" y="39625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 years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3962520" y="4419720"/>
            <a:ext cx="107604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5334120" y="4800600"/>
            <a:ext cx="2895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 to 500 years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3962520" y="548640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547560"/>
            <a:ext cx="8686800" cy="631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590920" y="0"/>
            <a:ext cx="4047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ke word combin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What does Vernandsky's theory say about the Earth fu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838080" y="3352680"/>
            <a:ext cx="481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f the science guide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iety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762120" y="480060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t would soften the human  environmental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What  does the bio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think about human imp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533520" y="4038480"/>
            <a:ext cx="83055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eople are clever enough t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able to maintain the rates of progres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What are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examples of human inte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with na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762120" y="35053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ission of carbon dioxid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2120" y="4495680"/>
            <a:ext cx="4190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lobal warm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762120" y="5334120"/>
            <a:ext cx="3504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tting forest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What will help people to lessen human impact 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838080" y="3352680"/>
            <a:ext cx="7024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erts say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ame inventivenes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at accelerate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uman developmen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914400" y="53341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an be used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soften human 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48:05Z</dcterms:created>
  <dc:creator>user</dc:creator>
  <dc:description/>
  <dc:language>en-US</dc:language>
  <cp:lastModifiedBy>123</cp:lastModifiedBy>
  <dcterms:modified xsi:type="dcterms:W3CDTF">2012-02-28T19:1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